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49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11.jpeg" ContentType="image/jpeg"/>
  <Override PartName="/ppt/media/image30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9.jpeg" ContentType="image/jpeg"/>
  <Override PartName="/ppt/media/image48.png" ContentType="image/png"/>
  <Override PartName="/ppt/media/image12.jpeg" ContentType="image/jpeg"/>
  <Override PartName="/ppt/media/image5.jpeg" ContentType="image/jpeg"/>
  <Override PartName="/ppt/media/image50.png" ContentType="image/pn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2.jpeg" ContentType="image/jpeg"/>
  <Override PartName="/ppt/media/image51.png" ContentType="image/png"/>
  <Override PartName="/ppt/media/image31.jpeg" ContentType="image/jpeg"/>
  <Override PartName="/ppt/media/image53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Failed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3917-5B1C-400F-9399-E0E9EAC4AB6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48AB-3876-44E7-A9B5-3833662867A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5975-43C5-43F1-BD5B-0D606AE8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08E0-5355-4EED-B386-3DC93EB6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D3FC-8DB7-4FAC-87E4-32F83A8B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A535-8B32-41F9-819A-44353756F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C1DE-B703-4DE7-A7A3-332FC371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EFBC-F7E7-45F7-B397-741C8689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9C0D-B720-48C3-92C0-179E3E1B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92B4-7DC2-4930-AC4B-FAAE1F53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97AC-284B-4F89-998B-BFA786AC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D5D8-515C-4331-BADE-B4158215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D662-AF20-4135-875E-D030FF6C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4539-16D1-4BEC-B4F6-3FBD08BD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0DA8-2B0C-425F-A322-F6E1222017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19892200&amp;tn=baiduimagedetail&amp;word=&#30005;&#24433;&#38498;&amp;in=23" TargetMode="External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3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hyperlink" Target="http://image.cn.yahoo.com/searchdtl_v3.html?p=%B5%E7&#1264;&#1338;&amp;b=4&amp;sf=&amp;sel=7" TargetMode="External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25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5.jpeg"/><Relationship Id="rId9" Type="http://schemas.openxmlformats.org/officeDocument/2006/relationships/image" Target="../media/image46.jpe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audio" Target="../media/Failed.WAV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cn.yahoo.com/searchdtl_v3.html?p=radio+station&amp;sf=&amp;sel=3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14400" y="1219320"/>
            <a:ext cx="7416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Uni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What’s the best movie thea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2209680" y="4191120"/>
            <a:ext cx="4969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Section A  1a-2d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theater06"/>
          <p:cNvPicPr/>
          <p:nvPr/>
        </p:nvPicPr>
        <p:blipFill>
          <a:blip r:embed="rId2"/>
          <a:stretch/>
        </p:blipFill>
        <p:spPr>
          <a:xfrm>
            <a:off x="971640" y="476280"/>
            <a:ext cx="6913440" cy="48974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1835280" y="566100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Movie the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4786560" y="57340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205240" y="5661000"/>
            <a:ext cx="17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cin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lp24"/>
          <p:cNvPicPr/>
          <p:nvPr/>
        </p:nvPicPr>
        <p:blipFill>
          <a:blip r:embed="rId2"/>
          <a:stretch/>
        </p:blipFill>
        <p:spPr>
          <a:xfrm>
            <a:off x="0" y="0"/>
            <a:ext cx="9144000" cy="44467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240840" y="4572000"/>
            <a:ext cx="540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zh-CN" sz="4400" spc="-1" strike="noStrike" u="sng">
                <a:solidFill>
                  <a:srgbClr val="cc0099"/>
                </a:solidFill>
                <a:uFillTx/>
                <a:latin typeface="Arial"/>
              </a:rPr>
              <a:t>comfortable</a:t>
            </a:r>
            <a:r>
              <a:rPr b="1" lang="zh-CN" sz="4400" spc="-1" strike="noStrike">
                <a:solidFill>
                  <a:srgbClr val="cc0099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seat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871800" y="54864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华文行楷"/>
              </a:rPr>
              <a:t>舒适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座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lp33"/>
          <p:cNvPicPr/>
          <p:nvPr/>
        </p:nvPicPr>
        <p:blipFill>
          <a:blip r:embed="rId2"/>
          <a:stretch/>
        </p:blipFill>
        <p:spPr>
          <a:xfrm>
            <a:off x="0" y="0"/>
            <a:ext cx="9144000" cy="45007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2532600" y="5181480"/>
            <a:ext cx="370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big </a:t>
            </a:r>
            <a:r>
              <a:rPr b="1" lang="zh-CN" sz="5400" spc="-1" strike="noStrike">
                <a:solidFill>
                  <a:srgbClr val="cc0099"/>
                </a:solidFill>
                <a:latin typeface="Comic Sans MS"/>
              </a:rPr>
              <a:t>scre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050840" y="936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1433254757"/>
          <p:cNvPicPr/>
          <p:nvPr/>
        </p:nvPicPr>
        <p:blipFill>
          <a:blip r:embed="rId2"/>
          <a:stretch/>
        </p:blipFill>
        <p:spPr>
          <a:xfrm>
            <a:off x="1187280" y="404640"/>
            <a:ext cx="6882120" cy="4537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2342160" y="5157720"/>
            <a:ext cx="443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friendly  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liuxt0410525"/>
          <p:cNvPicPr/>
          <p:nvPr/>
        </p:nvPicPr>
        <p:blipFill>
          <a:blip r:embed="rId3"/>
          <a:stretch/>
        </p:blipFill>
        <p:spPr>
          <a:xfrm>
            <a:off x="900000" y="0"/>
            <a:ext cx="7632720" cy="50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6944533bfe96195378"/>
          <p:cNvPicPr/>
          <p:nvPr/>
        </p:nvPicPr>
        <p:blipFill>
          <a:blip r:embed="rId2"/>
          <a:stretch/>
        </p:blipFill>
        <p:spPr>
          <a:xfrm>
            <a:off x="1143000" y="533520"/>
            <a:ext cx="7245360" cy="4551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1700280" y="5425920"/>
            <a:ext cx="552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in a fun part of t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u=2413553042,1200760511&amp;gp=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2200" y="326880"/>
            <a:ext cx="3529080" cy="187344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3"/>
          <p:cNvGrpSpPr/>
          <p:nvPr/>
        </p:nvGrpSpPr>
        <p:grpSpPr>
          <a:xfrm>
            <a:off x="808200" y="2243160"/>
            <a:ext cx="2665080" cy="520560"/>
            <a:chOff x="808200" y="2243160"/>
            <a:chExt cx="2665080" cy="520560"/>
          </a:xfrm>
        </p:grpSpPr>
        <p:sp>
          <p:nvSpPr>
            <p:cNvPr id="127" name="Rectangle 4"/>
            <p:cNvSpPr/>
            <p:nvPr/>
          </p:nvSpPr>
          <p:spPr>
            <a:xfrm>
              <a:off x="808200" y="2257560"/>
              <a:ext cx="2665080" cy="504720"/>
            </a:xfrm>
            <a:prstGeom prst="rect">
              <a:avLst/>
            </a:prstGeom>
            <a:solidFill>
              <a:srgbClr val="ffff99">
                <a:alpha val="7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5"/>
            <p:cNvSpPr/>
            <p:nvPr/>
          </p:nvSpPr>
          <p:spPr>
            <a:xfrm>
              <a:off x="808200" y="2243160"/>
              <a:ext cx="24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big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scree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6"/>
          <p:cNvGrpSpPr/>
          <p:nvPr/>
        </p:nvGrpSpPr>
        <p:grpSpPr>
          <a:xfrm>
            <a:off x="592200" y="4043520"/>
            <a:ext cx="4037040" cy="522000"/>
            <a:chOff x="592200" y="4043520"/>
            <a:chExt cx="4037040" cy="522000"/>
          </a:xfrm>
        </p:grpSpPr>
        <p:sp>
          <p:nvSpPr>
            <p:cNvPr id="130" name="Rectangle 7"/>
            <p:cNvSpPr/>
            <p:nvPr/>
          </p:nvSpPr>
          <p:spPr>
            <a:xfrm>
              <a:off x="646920" y="4043520"/>
              <a:ext cx="3982320" cy="504720"/>
            </a:xfrm>
            <a:prstGeom prst="rect">
              <a:avLst/>
            </a:prstGeom>
            <a:solidFill>
              <a:srgbClr val="ffff99">
                <a:alpha val="7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8"/>
            <p:cNvSpPr/>
            <p:nvPr/>
          </p:nvSpPr>
          <p:spPr>
            <a:xfrm>
              <a:off x="592200" y="4044960"/>
              <a:ext cx="398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comfortable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sea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9"/>
          <p:cNvGrpSpPr/>
          <p:nvPr/>
        </p:nvGrpSpPr>
        <p:grpSpPr>
          <a:xfrm>
            <a:off x="592200" y="6203880"/>
            <a:ext cx="3884400" cy="576360"/>
            <a:chOff x="592200" y="6203880"/>
            <a:chExt cx="3884400" cy="576360"/>
          </a:xfrm>
        </p:grpSpPr>
        <p:sp>
          <p:nvSpPr>
            <p:cNvPr id="133" name="Rectangle 10"/>
            <p:cNvSpPr/>
            <p:nvPr/>
          </p:nvSpPr>
          <p:spPr>
            <a:xfrm>
              <a:off x="592200" y="6275160"/>
              <a:ext cx="3884400" cy="505080"/>
            </a:xfrm>
            <a:prstGeom prst="rect">
              <a:avLst/>
            </a:prstGeom>
            <a:solidFill>
              <a:srgbClr val="ffff99">
                <a:alpha val="7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1"/>
            <p:cNvSpPr/>
            <p:nvPr/>
          </p:nvSpPr>
          <p:spPr>
            <a:xfrm>
              <a:off x="653040" y="6203880"/>
              <a:ext cx="376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friendly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servic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AutoShape 12"/>
          <p:cNvSpPr/>
          <p:nvPr/>
        </p:nvSpPr>
        <p:spPr>
          <a:xfrm>
            <a:off x="4768920" y="660240"/>
            <a:ext cx="504720" cy="6121440"/>
          </a:xfrm>
          <a:custGeom>
            <a:avLst/>
            <a:gdLst>
              <a:gd name="textAreaLeft" fmla="*/ 0 w 504720"/>
              <a:gd name="textAreaRight" fmla="*/ 182160 w 504720"/>
              <a:gd name="textAreaTop" fmla="*/ 159480 h 6121440"/>
              <a:gd name="textAreaBottom" fmla="*/ 5961960 h 612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5705640" y="3755880"/>
            <a:ext cx="28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qua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632560" y="137952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good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955800" y="3016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6" descr="坐椅1"/>
          <p:cNvPicPr/>
          <p:nvPr/>
        </p:nvPicPr>
        <p:blipFill>
          <a:blip r:embed="rId4"/>
          <a:srcRect l="0" t="0" r="-384" b="-420"/>
          <a:stretch/>
        </p:blipFill>
        <p:spPr>
          <a:xfrm>
            <a:off x="438120" y="2765520"/>
            <a:ext cx="4114800" cy="12189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7"/>
          <p:cNvSpPr/>
          <p:nvPr/>
        </p:nvSpPr>
        <p:spPr>
          <a:xfrm>
            <a:off x="879480" y="5454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8" descr="liuxt0410525"/>
          <p:cNvPicPr/>
          <p:nvPr/>
        </p:nvPicPr>
        <p:blipFill>
          <a:blip r:embed="rId5"/>
          <a:stretch/>
        </p:blipFill>
        <p:spPr>
          <a:xfrm>
            <a:off x="304920" y="4764240"/>
            <a:ext cx="3886200" cy="1411200"/>
          </a:xfrm>
          <a:prstGeom prst="rect">
            <a:avLst/>
          </a:prstGeom>
          <a:ln w="0">
            <a:noFill/>
          </a:ln>
        </p:spPr>
      </p:pic>
      <p:sp>
        <p:nvSpPr>
          <p:cNvPr id="142" name="Line 19"/>
          <p:cNvSpPr/>
          <p:nvPr/>
        </p:nvSpPr>
        <p:spPr>
          <a:xfrm>
            <a:off x="6497640" y="2532240"/>
            <a:ext cx="0" cy="1223640"/>
          </a:xfrm>
          <a:prstGeom prst="line">
            <a:avLst/>
          </a:prstGeom>
          <a:ln w="66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2679840" y="24066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0e04f24c9c95276077"/>
          <p:cNvPicPr/>
          <p:nvPr/>
        </p:nvPicPr>
        <p:blipFill>
          <a:blip r:embed="rId2"/>
          <a:stretch/>
        </p:blipFill>
        <p:spPr>
          <a:xfrm>
            <a:off x="2268360" y="4437000"/>
            <a:ext cx="3024360" cy="19954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1743120" y="11113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2824200" y="13273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u=804894319,724900960&amp;gp=-4"/>
          <p:cNvPicPr/>
          <p:nvPr/>
        </p:nvPicPr>
        <p:blipFill>
          <a:blip r:embed="rId3"/>
          <a:stretch/>
        </p:blipFill>
        <p:spPr>
          <a:xfrm>
            <a:off x="900000" y="1268280"/>
            <a:ext cx="1871640" cy="1656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5940360" y="11970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8" descr="u=3670761683,471824327&amp;gp=20"/>
          <p:cNvPicPr/>
          <p:nvPr/>
        </p:nvPicPr>
        <p:blipFill>
          <a:blip r:embed="rId4"/>
          <a:stretch/>
        </p:blipFill>
        <p:spPr>
          <a:xfrm>
            <a:off x="5076720" y="260280"/>
            <a:ext cx="1944720" cy="13669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9"/>
          <p:cNvSpPr/>
          <p:nvPr/>
        </p:nvSpPr>
        <p:spPr>
          <a:xfrm>
            <a:off x="879480" y="10396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0" descr="u=1244807122,1413581449&amp;gp=-16"/>
          <p:cNvPicPr/>
          <p:nvPr/>
        </p:nvPicPr>
        <p:blipFill>
          <a:blip r:embed="rId5"/>
          <a:stretch/>
        </p:blipFill>
        <p:spPr>
          <a:xfrm>
            <a:off x="6443640" y="3213000"/>
            <a:ext cx="1944720" cy="15112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1"/>
          <p:cNvSpPr/>
          <p:nvPr/>
        </p:nvSpPr>
        <p:spPr>
          <a:xfrm>
            <a:off x="6424200" y="4869000"/>
            <a:ext cx="251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Blue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6166080" y="177336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Su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831600" y="2997360"/>
            <a:ext cx="206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Red 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4"/>
          <p:cNvSpPr/>
          <p:nvPr/>
        </p:nvSpPr>
        <p:spPr>
          <a:xfrm flipH="1" flipV="1">
            <a:off x="2195640" y="3573000"/>
            <a:ext cx="720720" cy="129564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5"/>
          <p:cNvSpPr/>
          <p:nvPr/>
        </p:nvSpPr>
        <p:spPr>
          <a:xfrm flipV="1">
            <a:off x="4500720" y="1773000"/>
            <a:ext cx="1441440" cy="2950920"/>
          </a:xfrm>
          <a:prstGeom prst="line">
            <a:avLst/>
          </a:prstGeom>
          <a:ln w="95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6"/>
          <p:cNvSpPr/>
          <p:nvPr/>
        </p:nvSpPr>
        <p:spPr>
          <a:xfrm flipV="1">
            <a:off x="5292720" y="4653000"/>
            <a:ext cx="1079640" cy="1008000"/>
          </a:xfrm>
          <a:prstGeom prst="line">
            <a:avLst/>
          </a:prstGeom>
          <a:ln w="954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2521440" y="6021360"/>
            <a:ext cx="22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My 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8"/>
          <p:cNvSpPr/>
          <p:nvPr/>
        </p:nvSpPr>
        <p:spPr>
          <a:xfrm>
            <a:off x="5523120" y="53942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0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1660320" y="42433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0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4323960" y="29242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0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3782160" y="1484280"/>
            <a:ext cx="467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is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close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to my h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688320" y="2421000"/>
            <a:ext cx="433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Red Star Cinema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467280" y="765000"/>
            <a:ext cx="36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Super Cinema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3421800" y="3429000"/>
            <a:ext cx="485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is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closer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to my h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990160" y="5445000"/>
            <a:ext cx="58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is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the closest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to my h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611280" y="436572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lue Moon Cinema</a:t>
            </a:r>
            <a:r>
              <a:rPr b="0" lang="zh-CN" sz="36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电影票"/>
          <p:cNvPicPr/>
          <p:nvPr/>
        </p:nvPicPr>
        <p:blipFill>
          <a:blip r:embed="rId2"/>
          <a:stretch/>
        </p:blipFill>
        <p:spPr>
          <a:xfrm>
            <a:off x="208080" y="563400"/>
            <a:ext cx="2376360" cy="1582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票"/>
          <p:cNvPicPr/>
          <p:nvPr/>
        </p:nvPicPr>
        <p:blipFill>
          <a:blip r:embed="rId3"/>
          <a:stretch/>
        </p:blipFill>
        <p:spPr>
          <a:xfrm>
            <a:off x="279360" y="2765520"/>
            <a:ext cx="2233800" cy="1560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票"/>
          <p:cNvPicPr/>
          <p:nvPr/>
        </p:nvPicPr>
        <p:blipFill>
          <a:blip r:embed="rId4"/>
          <a:stretch/>
        </p:blipFill>
        <p:spPr>
          <a:xfrm>
            <a:off x="279360" y="5025960"/>
            <a:ext cx="2340000" cy="14065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1031040" y="2166840"/>
            <a:ext cx="87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031040" y="4398840"/>
            <a:ext cx="87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1102680" y="6415200"/>
            <a:ext cx="87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5464080" y="1569960"/>
            <a:ext cx="19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is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heap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2872080" y="3083040"/>
            <a:ext cx="297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Super Cinem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2729160" y="5170320"/>
            <a:ext cx="36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Red star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Cinem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5393520" y="3801960"/>
            <a:ext cx="23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i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heap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5536800" y="5962680"/>
            <a:ext cx="322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i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he cheapes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2660760" y="922320"/>
            <a:ext cx="34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Blue Moon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Cinem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hbwt1"/>
          <p:cNvPicPr/>
          <p:nvPr/>
        </p:nvPicPr>
        <p:blipFill>
          <a:blip r:embed="rId2"/>
          <a:srcRect l="0" t="0" r="61776" b="82365"/>
          <a:stretch/>
        </p:blipFill>
        <p:spPr>
          <a:xfrm>
            <a:off x="324000" y="2703600"/>
            <a:ext cx="2592360" cy="1828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hbwt1"/>
          <p:cNvPicPr/>
          <p:nvPr/>
        </p:nvPicPr>
        <p:blipFill>
          <a:blip r:embed="rId3"/>
          <a:srcRect l="41608" t="70617" r="-52" b="-17"/>
          <a:stretch/>
        </p:blipFill>
        <p:spPr>
          <a:xfrm>
            <a:off x="324000" y="4635360"/>
            <a:ext cx="2592360" cy="1994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hbwt1"/>
          <p:cNvPicPr/>
          <p:nvPr/>
        </p:nvPicPr>
        <p:blipFill>
          <a:blip r:embed="rId4"/>
          <a:srcRect l="0" t="17668" r="61776" b="64697"/>
          <a:stretch/>
        </p:blipFill>
        <p:spPr>
          <a:xfrm>
            <a:off x="324000" y="746280"/>
            <a:ext cx="2663640" cy="18795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5438160" y="1827360"/>
            <a:ext cx="19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is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popular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3063960" y="2784600"/>
            <a:ext cx="356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Blue Moon Cinem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3096000" y="4991040"/>
            <a:ext cx="26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Super Cinem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5222520" y="3699000"/>
            <a:ext cx="294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is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more popu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4647240" y="5735520"/>
            <a:ext cx="355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i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the most popu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3276720" y="1035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Red star Cinem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0" y="476280"/>
            <a:ext cx="24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85800" y="1828800"/>
            <a:ext cx="7848720" cy="44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 Black"/>
              </a:rPr>
              <a:t>Good , better , best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Never let it rest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Till good is better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And better best .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 Black"/>
              </a:rPr>
              <a:t>Bad , worse ,worst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Never fight against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Get better and bet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And you’ll be the b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533520" y="76212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RockoUltraFLF"/>
              </a:rPr>
              <a:t>GOOD ,  BETTER,   B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1042920" y="615456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0" y="5805360"/>
            <a:ext cx="860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7010280" y="914400"/>
            <a:ext cx="1143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Arial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Arial"/>
              </a:rPr>
              <a:t>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Arial"/>
              </a:rPr>
              <a:t>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Arial"/>
              </a:rPr>
              <a:t>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Arial"/>
              </a:rPr>
              <a:t>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F:\图标\图片2.jpg"/>
          <p:cNvPicPr/>
          <p:nvPr/>
        </p:nvPicPr>
        <p:blipFill>
          <a:blip r:embed="rId2"/>
          <a:stretch/>
        </p:blipFill>
        <p:spPr>
          <a:xfrm>
            <a:off x="6934320" y="4648320"/>
            <a:ext cx="1117440" cy="135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335383974"/>
          <p:cNvPicPr/>
          <p:nvPr/>
        </p:nvPicPr>
        <p:blipFill>
          <a:blip r:embed="rId2"/>
          <a:stretch/>
        </p:blipFill>
        <p:spPr>
          <a:xfrm>
            <a:off x="247680" y="611280"/>
            <a:ext cx="2592360" cy="1873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屏幕2"/>
          <p:cNvPicPr/>
          <p:nvPr/>
        </p:nvPicPr>
        <p:blipFill>
          <a:blip r:embed="rId3"/>
          <a:stretch/>
        </p:blipFill>
        <p:spPr>
          <a:xfrm>
            <a:off x="174600" y="4572000"/>
            <a:ext cx="2611440" cy="18352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4856040" y="190800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has a 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big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sc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3487680" y="2987640"/>
            <a:ext cx="302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Super Cine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3271320" y="5046840"/>
            <a:ext cx="39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Blue Moon Cine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4710600" y="3824280"/>
            <a:ext cx="408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has a 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bigger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screen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4133520" y="5867280"/>
            <a:ext cx="469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has 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the biggest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sc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3559320" y="1087560"/>
            <a:ext cx="34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Red star Cinem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-76320" y="3643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1"/>
          <p:cNvSpPr/>
          <p:nvPr/>
        </p:nvSpPr>
        <p:spPr>
          <a:xfrm>
            <a:off x="-909720" y="4038480"/>
            <a:ext cx="913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2" descr="12125bdcec881a1c7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47680" y="2843280"/>
            <a:ext cx="2519280" cy="151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200412308231758018"/>
          <p:cNvPicPr/>
          <p:nvPr/>
        </p:nvPicPr>
        <p:blipFill>
          <a:blip r:embed="rId2"/>
          <a:stretch/>
        </p:blipFill>
        <p:spPr>
          <a:xfrm>
            <a:off x="0" y="457200"/>
            <a:ext cx="2808360" cy="21067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3"/>
          <p:cNvSpPr/>
          <p:nvPr/>
        </p:nvSpPr>
        <p:spPr>
          <a:xfrm>
            <a:off x="5796720" y="1798560"/>
            <a:ext cx="31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has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friendly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3421440" y="2806560"/>
            <a:ext cx="22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Super Cinem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3493080" y="4965840"/>
            <a:ext cx="29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Blue Moon Cinem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5364000" y="3598920"/>
            <a:ext cx="3381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has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friendlier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service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5148360" y="5950080"/>
            <a:ext cx="40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has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the friendliest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3278880" y="93348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Red star Cinem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93640" y="3603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0" descr="Img221598425"/>
          <p:cNvPicPr/>
          <p:nvPr/>
        </p:nvPicPr>
        <p:blipFill>
          <a:blip r:embed="rId3"/>
          <a:stretch/>
        </p:blipFill>
        <p:spPr>
          <a:xfrm>
            <a:off x="0" y="2590920"/>
            <a:ext cx="2819520" cy="22003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1"/>
          <p:cNvSpPr/>
          <p:nvPr/>
        </p:nvSpPr>
        <p:spPr>
          <a:xfrm>
            <a:off x="822240" y="6194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2" descr="liuxt0410525"/>
          <p:cNvPicPr/>
          <p:nvPr/>
        </p:nvPicPr>
        <p:blipFill>
          <a:blip r:embed="rId4"/>
          <a:stretch/>
        </p:blipFill>
        <p:spPr>
          <a:xfrm>
            <a:off x="0" y="4761000"/>
            <a:ext cx="2771640" cy="20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wfj"/>
          <p:cNvPicPr/>
          <p:nvPr/>
        </p:nvPicPr>
        <p:blipFill>
          <a:blip r:embed="rId2"/>
          <a:srcRect l="0" t="0" r="344" b="-133"/>
          <a:stretch/>
        </p:blipFill>
        <p:spPr>
          <a:xfrm>
            <a:off x="39600" y="2744640"/>
            <a:ext cx="2592360" cy="1692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坐椅1"/>
          <p:cNvPicPr/>
          <p:nvPr/>
        </p:nvPicPr>
        <p:blipFill>
          <a:blip r:embed="rId3"/>
          <a:srcRect l="0" t="0" r="-384" b="-420"/>
          <a:stretch/>
        </p:blipFill>
        <p:spPr>
          <a:xfrm>
            <a:off x="39600" y="4618080"/>
            <a:ext cx="2665440" cy="2239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转椅"/>
          <p:cNvPicPr/>
          <p:nvPr/>
        </p:nvPicPr>
        <p:blipFill>
          <a:blip r:embed="rId4"/>
          <a:srcRect l="0" t="0" r="-389" b="287"/>
          <a:stretch/>
        </p:blipFill>
        <p:spPr>
          <a:xfrm>
            <a:off x="39600" y="657360"/>
            <a:ext cx="2592360" cy="19000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4794120" y="1881360"/>
            <a:ext cx="348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has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comfortable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sea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2706840" y="2889360"/>
            <a:ext cx="22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Super Cinem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2992680" y="4834080"/>
            <a:ext cx="30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Blue Moon  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4217760" y="3610080"/>
            <a:ext cx="43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ha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more comfortable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sea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4073760" y="5553000"/>
            <a:ext cx="48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ha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the most comfortable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sea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2850120" y="116064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Red Star Cinem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119880" y="609480"/>
            <a:ext cx="8085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How do you choose a cinema to go t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Which is important?Which is not impor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NoteSession%2520Resize%2520Michael%2520on%2520Big%2520Screen"/>
          <p:cNvPicPr/>
          <p:nvPr/>
        </p:nvPicPr>
        <p:blipFill>
          <a:blip r:embed="rId2"/>
          <a:stretch/>
        </p:blipFill>
        <p:spPr>
          <a:xfrm>
            <a:off x="2347920" y="1990800"/>
            <a:ext cx="1395360" cy="1523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Home"/>
          <p:cNvPicPr/>
          <p:nvPr/>
        </p:nvPicPr>
        <p:blipFill>
          <a:blip r:embed="rId3"/>
          <a:stretch/>
        </p:blipFill>
        <p:spPr>
          <a:xfrm>
            <a:off x="7027920" y="1919160"/>
            <a:ext cx="1539720" cy="1455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SalChapelStMatrixHse2902"/>
          <p:cNvPicPr/>
          <p:nvPr/>
        </p:nvPicPr>
        <p:blipFill>
          <a:blip r:embed="rId4"/>
          <a:stretch/>
        </p:blipFill>
        <p:spPr>
          <a:xfrm>
            <a:off x="403200" y="4425840"/>
            <a:ext cx="1584360" cy="155124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6"/>
          <p:cNvSpPr/>
          <p:nvPr/>
        </p:nvSpPr>
        <p:spPr>
          <a:xfrm>
            <a:off x="-46440" y="3595680"/>
            <a:ext cx="201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comfor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se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2226600" y="371952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big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4588200" y="3575160"/>
            <a:ext cx="13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friend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2851200" y="60958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new mov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5888160" y="371952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distance from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-297720" y="602604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in a fun part of t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2" descr="crowded"/>
          <p:cNvPicPr/>
          <p:nvPr/>
        </p:nvPicPr>
        <p:blipFill>
          <a:blip r:embed="rId5"/>
          <a:stretch/>
        </p:blipFill>
        <p:spPr>
          <a:xfrm>
            <a:off x="4940280" y="4367160"/>
            <a:ext cx="1600200" cy="16207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3"/>
          <p:cNvSpPr/>
          <p:nvPr/>
        </p:nvSpPr>
        <p:spPr>
          <a:xfrm>
            <a:off x="4874760" y="60958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pop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6800040" y="609588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cheap ti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4191120" y="2870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6" descr="Img221598425"/>
          <p:cNvPicPr/>
          <p:nvPr/>
        </p:nvPicPr>
        <p:blipFill>
          <a:blip r:embed="rId6"/>
          <a:stretch/>
        </p:blipFill>
        <p:spPr>
          <a:xfrm>
            <a:off x="4579920" y="1919160"/>
            <a:ext cx="1511280" cy="14972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7"/>
          <p:cNvSpPr/>
          <p:nvPr/>
        </p:nvSpPr>
        <p:spPr>
          <a:xfrm>
            <a:off x="609480" y="24066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8" descr="wfj"/>
          <p:cNvPicPr/>
          <p:nvPr/>
        </p:nvPicPr>
        <p:blipFill>
          <a:blip r:embed="rId7"/>
          <a:srcRect l="0" t="0" r="344" b="-133"/>
          <a:stretch/>
        </p:blipFill>
        <p:spPr>
          <a:xfrm>
            <a:off x="168120" y="1990800"/>
            <a:ext cx="1371600" cy="15033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19"/>
          <p:cNvSpPr/>
          <p:nvPr/>
        </p:nvSpPr>
        <p:spPr>
          <a:xfrm>
            <a:off x="6288120" y="50022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0" descr="u=890380898,2325118544&amp;gp=38"/>
          <p:cNvPicPr/>
          <p:nvPr/>
        </p:nvPicPr>
        <p:blipFill>
          <a:blip r:embed="rId8"/>
          <a:stretch/>
        </p:blipFill>
        <p:spPr>
          <a:xfrm>
            <a:off x="7243920" y="4295880"/>
            <a:ext cx="1512720" cy="15843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21"/>
          <p:cNvSpPr/>
          <p:nvPr/>
        </p:nvSpPr>
        <p:spPr>
          <a:xfrm>
            <a:off x="5280120" y="298620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2" descr="u=3585997554,1277209919&amp;gp=-38"/>
          <p:cNvPicPr/>
          <p:nvPr/>
        </p:nvPicPr>
        <p:blipFill>
          <a:blip r:embed="rId9"/>
          <a:stretch/>
        </p:blipFill>
        <p:spPr>
          <a:xfrm>
            <a:off x="2635200" y="4438800"/>
            <a:ext cx="1440000" cy="14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7"/>
          <p:cNvSpPr/>
          <p:nvPr/>
        </p:nvSpPr>
        <p:spPr>
          <a:xfrm>
            <a:off x="217440" y="557280"/>
            <a:ext cx="892656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黑体"/>
              </a:rPr>
              <a:t>1a 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How do you choose what movie theater to go to? Write the things in the box under “Important” or “Not important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380880" y="1905120"/>
            <a:ext cx="7867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fortable seats    big screens     best soun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ap     new movies       close to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y tickets quickly      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33520" y="3533760"/>
          <a:ext cx="7561080" cy="3171960"/>
        </p:xfrm>
        <a:graphic>
          <a:graphicData uri="http://schemas.openxmlformats.org/drawingml/2006/table">
            <a:tbl>
              <a:tblPr/>
              <a:tblGrid>
                <a:gridCol w="3744720"/>
                <a:gridCol w="3816360"/>
              </a:tblGrid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Importa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Not Importa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70000"/>
                      </a:srgbClr>
                    </a:solidFill>
                  </a:tcPr>
                </a:tc>
              </a:tr>
              <a:tr h="23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44" name="Rectangle 30"/>
          <p:cNvSpPr/>
          <p:nvPr/>
        </p:nvSpPr>
        <p:spPr>
          <a:xfrm>
            <a:off x="756720" y="4205160"/>
            <a:ext cx="339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big scre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comfortable se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best 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pop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1"/>
          <p:cNvSpPr/>
          <p:nvPr/>
        </p:nvSpPr>
        <p:spPr>
          <a:xfrm>
            <a:off x="4569840" y="4276800"/>
            <a:ext cx="365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close to 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che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new mov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buy tickets quick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324000" y="1446120"/>
            <a:ext cx="86407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he most important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you in a movie the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52280" y="2971800"/>
            <a:ext cx="9144000" cy="41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 thin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fortable seats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re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 most importan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m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or m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re the most importan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movie the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: But I think …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s the most important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: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 my opinio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 think …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s the most import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WordArt 4"/>
          <p:cNvSpPr txBox="1"/>
          <p:nvPr/>
        </p:nvSpPr>
        <p:spPr>
          <a:xfrm>
            <a:off x="304920" y="533520"/>
            <a:ext cx="3886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Group work 1a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685800" y="3127320"/>
          <a:ext cx="7972560" cy="3387960"/>
        </p:xfrm>
        <a:graphic>
          <a:graphicData uri="http://schemas.openxmlformats.org/drawingml/2006/table">
            <a:tbl>
              <a:tblPr/>
              <a:tblGrid>
                <a:gridCol w="4603680"/>
                <a:gridCol w="3368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liti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ie Thea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has the biggest screen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’s the most popul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’s the closest to home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wn Cine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’s the cheapes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has the friendliest servi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has the most comfortable seat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" name="Text Box 28"/>
          <p:cNvSpPr/>
          <p:nvPr/>
        </p:nvSpPr>
        <p:spPr>
          <a:xfrm>
            <a:off x="457200" y="533520"/>
            <a:ext cx="868680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b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Listen and match thestatements    with the movie theaters. Write down the na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9" descr="20001010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91520" y="5221440"/>
            <a:ext cx="1331640" cy="133164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0"/>
          <p:cNvSpPr/>
          <p:nvPr/>
        </p:nvSpPr>
        <p:spPr>
          <a:xfrm>
            <a:off x="5943600" y="35845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Screen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715000" y="400212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Screen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2"/>
          <p:cNvSpPr/>
          <p:nvPr/>
        </p:nvSpPr>
        <p:spPr>
          <a:xfrm>
            <a:off x="5867280" y="499428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Town 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3"/>
          <p:cNvSpPr/>
          <p:nvPr/>
        </p:nvSpPr>
        <p:spPr>
          <a:xfrm>
            <a:off x="5867280" y="541332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Town 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4"/>
          <p:cNvSpPr/>
          <p:nvPr/>
        </p:nvSpPr>
        <p:spPr>
          <a:xfrm>
            <a:off x="5715000" y="60228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Movie Pa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图片 9" descr="A-1b-3.png"/>
          <p:cNvPicPr/>
          <p:nvPr/>
        </p:nvPicPr>
        <p:blipFill>
          <a:blip r:embed="rId4"/>
          <a:stretch/>
        </p:blipFill>
        <p:spPr>
          <a:xfrm>
            <a:off x="6248520" y="2160720"/>
            <a:ext cx="2286000" cy="85068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10" descr="A-1b-1.png"/>
          <p:cNvPicPr/>
          <p:nvPr/>
        </p:nvPicPr>
        <p:blipFill>
          <a:blip r:embed="rId5"/>
          <a:stretch/>
        </p:blipFill>
        <p:spPr>
          <a:xfrm>
            <a:off x="4572000" y="2173320"/>
            <a:ext cx="1528920" cy="81900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11" descr="A-1b-2.png"/>
          <p:cNvPicPr/>
          <p:nvPr/>
        </p:nvPicPr>
        <p:blipFill>
          <a:blip r:embed="rId6"/>
          <a:stretch/>
        </p:blipFill>
        <p:spPr>
          <a:xfrm>
            <a:off x="2666880" y="2173320"/>
            <a:ext cx="1828800" cy="799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Failed.WAV"/>
      </p:stSnd>
    </p:sndAc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228600" y="609480"/>
            <a:ext cx="883908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a  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Listen to a reporter interview a boy. Circle  the boy’s answ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808200" y="190332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6"/>
          <p:cNvSpPr/>
          <p:nvPr/>
        </p:nvSpPr>
        <p:spPr>
          <a:xfrm>
            <a:off x="228600" y="1066680"/>
            <a:ext cx="1371600" cy="57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3657600" y="1949400"/>
            <a:ext cx="5334120" cy="48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Green City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Which is the best clothes sto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ler’s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 Moon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  Dream Clot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Which is the best radio s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970AM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97.9FM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107.9F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图片 7" descr="A-2a.png"/>
          <p:cNvPicPr/>
          <p:nvPr/>
        </p:nvPicPr>
        <p:blipFill>
          <a:blip r:embed="rId2"/>
          <a:stretch/>
        </p:blipFill>
        <p:spPr>
          <a:xfrm>
            <a:off x="152280" y="2514600"/>
            <a:ext cx="3200400" cy="3962520"/>
          </a:xfrm>
          <a:prstGeom prst="rect">
            <a:avLst/>
          </a:prstGeom>
          <a:ln w="0">
            <a:noFill/>
          </a:ln>
        </p:spPr>
      </p:pic>
      <p:sp>
        <p:nvSpPr>
          <p:cNvPr id="265" name="圆角矩形 8"/>
          <p:cNvSpPr/>
          <p:nvPr/>
        </p:nvSpPr>
        <p:spPr>
          <a:xfrm>
            <a:off x="3505320" y="1905120"/>
            <a:ext cx="5486400" cy="4647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6"/>
          <p:cNvSpPr/>
          <p:nvPr/>
        </p:nvSpPr>
        <p:spPr>
          <a:xfrm>
            <a:off x="3581280" y="2895480"/>
            <a:ext cx="1981440" cy="57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6"/>
          <p:cNvSpPr/>
          <p:nvPr/>
        </p:nvSpPr>
        <p:spPr>
          <a:xfrm>
            <a:off x="3733920" y="5867280"/>
            <a:ext cx="1981080" cy="57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"/>
          <p:cNvSpPr/>
          <p:nvPr/>
        </p:nvSpPr>
        <p:spPr>
          <a:xfrm>
            <a:off x="186840" y="556920"/>
            <a:ext cx="876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9536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b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 Listen again. Write the correct sto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536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or radio station next to each state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5"/>
          <p:cNvSpPr/>
          <p:nvPr/>
        </p:nvSpPr>
        <p:spPr>
          <a:xfrm>
            <a:off x="1143000" y="3354480"/>
            <a:ext cx="5410080" cy="34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thes S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It’s the most expen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 It has the best clot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 It’s the worst st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You can buy clothes the m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aply t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组合 7"/>
          <p:cNvGrpSpPr/>
          <p:nvPr/>
        </p:nvGrpSpPr>
        <p:grpSpPr>
          <a:xfrm>
            <a:off x="3657600" y="2133720"/>
            <a:ext cx="2438280" cy="1600200"/>
            <a:chOff x="3657600" y="2133720"/>
            <a:chExt cx="2438280" cy="1600200"/>
          </a:xfrm>
        </p:grpSpPr>
        <p:sp>
          <p:nvSpPr>
            <p:cNvPr id="271" name="五边形 8"/>
            <p:cNvSpPr/>
            <p:nvPr/>
          </p:nvSpPr>
          <p:spPr>
            <a:xfrm>
              <a:off x="3657600" y="2133720"/>
              <a:ext cx="2438280" cy="160020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74" y="0"/>
                  </a:lnTo>
                  <a:lnTo>
                    <a:pt x="21600" y="10800"/>
                  </a:lnTo>
                  <a:lnTo>
                    <a:pt x="1887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c9cd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7"/>
            <p:cNvSpPr/>
            <p:nvPr/>
          </p:nvSpPr>
          <p:spPr>
            <a:xfrm>
              <a:off x="3733560" y="2133720"/>
              <a:ext cx="2362320" cy="15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37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iller’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7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lue Mo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7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ream Cloth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Box 6"/>
          <p:cNvSpPr/>
          <p:nvPr/>
        </p:nvSpPr>
        <p:spPr>
          <a:xfrm>
            <a:off x="1143000" y="3809880"/>
            <a:ext cx="1905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lue M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0"/>
          <p:cNvSpPr/>
          <p:nvPr/>
        </p:nvSpPr>
        <p:spPr>
          <a:xfrm>
            <a:off x="1143000" y="4803840"/>
            <a:ext cx="3124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eam Clot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1"/>
          <p:cNvSpPr/>
          <p:nvPr/>
        </p:nvSpPr>
        <p:spPr>
          <a:xfrm>
            <a:off x="1143000" y="5261040"/>
            <a:ext cx="3124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ller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2"/>
          <p:cNvSpPr/>
          <p:nvPr/>
        </p:nvSpPr>
        <p:spPr>
          <a:xfrm>
            <a:off x="1143000" y="4267080"/>
            <a:ext cx="3124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ller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13" descr="QQ截图20130805135357.jpg"/>
          <p:cNvPicPr/>
          <p:nvPr/>
        </p:nvPicPr>
        <p:blipFill>
          <a:blip r:embed="rId2"/>
          <a:stretch/>
        </p:blipFill>
        <p:spPr>
          <a:xfrm>
            <a:off x="6553080" y="4114800"/>
            <a:ext cx="23767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五边形 5"/>
          <p:cNvSpPr/>
          <p:nvPr/>
        </p:nvSpPr>
        <p:spPr>
          <a:xfrm>
            <a:off x="4724280" y="2286000"/>
            <a:ext cx="1828800" cy="16002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66" y="0"/>
                </a:lnTo>
                <a:lnTo>
                  <a:pt x="21600" y="10800"/>
                </a:lnTo>
                <a:lnTo>
                  <a:pt x="17966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3"/>
          <p:cNvSpPr/>
          <p:nvPr/>
        </p:nvSpPr>
        <p:spPr>
          <a:xfrm>
            <a:off x="685800" y="3505320"/>
            <a:ext cx="746748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 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 It has the worst mus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 They play the most boring so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 The DJs choose songs the most caref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 It’s the most pop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4800600" y="2286000"/>
            <a:ext cx="182880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70 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7.9 F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7.9 F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6" descr="QQ截图20130805135710.jpg"/>
          <p:cNvPicPr/>
          <p:nvPr/>
        </p:nvPicPr>
        <p:blipFill>
          <a:blip r:embed="rId2"/>
          <a:stretch/>
        </p:blipFill>
        <p:spPr>
          <a:xfrm>
            <a:off x="609480" y="685800"/>
            <a:ext cx="3303720" cy="2793960"/>
          </a:xfrm>
          <a:prstGeom prst="rect">
            <a:avLst/>
          </a:prstGeom>
          <a:ln w="0">
            <a:noFill/>
          </a:ln>
        </p:spPr>
      </p:pic>
      <p:sp>
        <p:nvSpPr>
          <p:cNvPr id="282" name="TextBox 7"/>
          <p:cNvSpPr/>
          <p:nvPr/>
        </p:nvSpPr>
        <p:spPr>
          <a:xfrm>
            <a:off x="685800" y="4970520"/>
            <a:ext cx="1905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7.9 F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8"/>
          <p:cNvSpPr/>
          <p:nvPr/>
        </p:nvSpPr>
        <p:spPr>
          <a:xfrm>
            <a:off x="609480" y="3976560"/>
            <a:ext cx="1905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90 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0"/>
          <p:cNvSpPr/>
          <p:nvPr/>
        </p:nvSpPr>
        <p:spPr>
          <a:xfrm>
            <a:off x="762120" y="5454720"/>
            <a:ext cx="1904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7.9 F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1"/>
          <p:cNvSpPr/>
          <p:nvPr/>
        </p:nvSpPr>
        <p:spPr>
          <a:xfrm>
            <a:off x="685800" y="4433760"/>
            <a:ext cx="1905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7.9 F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751120" y="1525680"/>
            <a:ext cx="48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is computer is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hea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607480" y="3686040"/>
            <a:ext cx="60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is computer is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cheaper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an that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825280" y="5126040"/>
            <a:ext cx="56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is one is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the cheapest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f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1100_front_66x57"/>
          <p:cNvPicPr/>
          <p:nvPr/>
        </p:nvPicPr>
        <p:blipFill>
          <a:blip r:embed="rId2"/>
          <a:stretch/>
        </p:blipFill>
        <p:spPr>
          <a:xfrm>
            <a:off x="449280" y="2965320"/>
            <a:ext cx="1944720" cy="1765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1100_fp_316x316"/>
          <p:cNvPicPr/>
          <p:nvPr/>
        </p:nvPicPr>
        <p:blipFill>
          <a:blip r:embed="rId3"/>
          <a:stretch/>
        </p:blipFill>
        <p:spPr>
          <a:xfrm>
            <a:off x="880920" y="4838760"/>
            <a:ext cx="2087640" cy="1942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未命名2"/>
          <p:cNvPicPr/>
          <p:nvPr/>
        </p:nvPicPr>
        <p:blipFill>
          <a:blip r:embed="rId4"/>
          <a:stretch/>
        </p:blipFill>
        <p:spPr>
          <a:xfrm>
            <a:off x="304920" y="806400"/>
            <a:ext cx="2019240" cy="17938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1407960" y="80640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￥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6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055600" y="3110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￥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4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2055600" y="570240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￥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68000" y="1486080"/>
            <a:ext cx="80643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Lily gets up ______ (early) tha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uc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Which goes __________ (slowly),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om or Ji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This book is ____________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interesting) than that 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3813120" y="1628640"/>
            <a:ext cx="1476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arl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3716280" y="2978280"/>
            <a:ext cx="2646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ore slowl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3908880" y="4419720"/>
            <a:ext cx="3394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ore inter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925560" y="639720"/>
            <a:ext cx="6910200" cy="7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440" rIns="118440" tIns="59400" bIns="594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4100" spc="-1" strike="noStrike">
                <a:solidFill>
                  <a:srgbClr val="0000cc"/>
                </a:solidFill>
                <a:latin typeface="Arial"/>
                <a:ea typeface="黑体"/>
              </a:rPr>
              <a:t>根据所给词的适当形式填空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539640" y="99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She works  ________________                                (careful) in her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 Who goes to bed _________ (late) Jim, Tom or Jac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 I think turkey is ________________                              (delicious) of al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3626640" y="1089000"/>
            <a:ext cx="3801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the most carefu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4867920" y="2529000"/>
            <a:ext cx="1452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a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4781160" y="3879720"/>
            <a:ext cx="366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 most delic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阴天4"/>
          <p:cNvPicPr/>
          <p:nvPr/>
        </p:nvPicPr>
        <p:blipFill>
          <a:blip r:embed="rId2"/>
          <a:stretch/>
        </p:blipFill>
        <p:spPr>
          <a:xfrm>
            <a:off x="703440" y="588960"/>
            <a:ext cx="3433680" cy="2289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台风1"/>
          <p:cNvPicPr/>
          <p:nvPr/>
        </p:nvPicPr>
        <p:blipFill>
          <a:blip r:embed="rId3"/>
          <a:stretch/>
        </p:blipFill>
        <p:spPr>
          <a:xfrm>
            <a:off x="5022720" y="1930320"/>
            <a:ext cx="3167280" cy="2772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918000" y="2971800"/>
            <a:ext cx="34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he weather is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ba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4883400" y="4954680"/>
            <a:ext cx="387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he weather is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wors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613440" y="6095880"/>
            <a:ext cx="44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he weather is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th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wor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下雪"/>
          <p:cNvPicPr/>
          <p:nvPr/>
        </p:nvPicPr>
        <p:blipFill>
          <a:blip r:embed="rId4"/>
          <a:stretch/>
        </p:blipFill>
        <p:spPr>
          <a:xfrm>
            <a:off x="595440" y="3730680"/>
            <a:ext cx="3389040" cy="232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汽车"/>
          <p:cNvPicPr/>
          <p:nvPr/>
        </p:nvPicPr>
        <p:blipFill>
          <a:blip r:embed="rId2"/>
          <a:stretch/>
        </p:blipFill>
        <p:spPr>
          <a:xfrm>
            <a:off x="539640" y="609480"/>
            <a:ext cx="2087640" cy="2521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汽车2"/>
          <p:cNvPicPr/>
          <p:nvPr/>
        </p:nvPicPr>
        <p:blipFill>
          <a:blip r:embed="rId3"/>
          <a:stretch/>
        </p:blipFill>
        <p:spPr>
          <a:xfrm>
            <a:off x="304920" y="3505320"/>
            <a:ext cx="2514600" cy="3168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汽车3"/>
          <p:cNvPicPr/>
          <p:nvPr/>
        </p:nvPicPr>
        <p:blipFill>
          <a:blip r:embed="rId4"/>
          <a:stretch/>
        </p:blipFill>
        <p:spPr>
          <a:xfrm>
            <a:off x="5364000" y="609480"/>
            <a:ext cx="2232360" cy="28814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2849400" y="502920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is car is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th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best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f the th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762120" y="29718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6019920" y="29718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438280" y="474480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is apple is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th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biggest of al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苹果"/>
          <p:cNvPicPr/>
          <p:nvPr/>
        </p:nvPicPr>
        <p:blipFill>
          <a:blip r:embed="rId2"/>
          <a:stretch/>
        </p:blipFill>
        <p:spPr>
          <a:xfrm>
            <a:off x="98280" y="3303720"/>
            <a:ext cx="2656080" cy="3097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苹果"/>
          <p:cNvPicPr/>
          <p:nvPr/>
        </p:nvPicPr>
        <p:blipFill>
          <a:blip r:embed="rId3"/>
          <a:stretch/>
        </p:blipFill>
        <p:spPr>
          <a:xfrm>
            <a:off x="3157560" y="193680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苹果"/>
          <p:cNvPicPr/>
          <p:nvPr/>
        </p:nvPicPr>
        <p:blipFill>
          <a:blip r:embed="rId4"/>
          <a:stretch/>
        </p:blipFill>
        <p:spPr>
          <a:xfrm>
            <a:off x="6326280" y="811080"/>
            <a:ext cx="1579320" cy="1727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6615000" y="2655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b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5246640" y="3735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big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钢笔"/>
          <p:cNvPicPr/>
          <p:nvPr/>
        </p:nvPicPr>
        <p:blipFill>
          <a:blip r:embed="rId2"/>
          <a:stretch/>
        </p:blipFill>
        <p:spPr>
          <a:xfrm>
            <a:off x="179280" y="685800"/>
            <a:ext cx="1778040" cy="12574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181080" y="205416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10 yua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钢笔"/>
          <p:cNvPicPr/>
          <p:nvPr/>
        </p:nvPicPr>
        <p:blipFill>
          <a:blip r:embed="rId3"/>
          <a:stretch/>
        </p:blipFill>
        <p:spPr>
          <a:xfrm>
            <a:off x="250920" y="2674800"/>
            <a:ext cx="1778040" cy="125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钢笔"/>
          <p:cNvPicPr/>
          <p:nvPr/>
        </p:nvPicPr>
        <p:blipFill>
          <a:blip r:embed="rId4"/>
          <a:stretch/>
        </p:blipFill>
        <p:spPr>
          <a:xfrm>
            <a:off x="324000" y="4646520"/>
            <a:ext cx="1777680" cy="12574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542520" y="399744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20 yu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41440" y="6086520"/>
            <a:ext cx="14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50 yu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008080" y="5365800"/>
            <a:ext cx="713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This  pen is </a:t>
            </a: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the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most expensive of the thre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3124080" y="114300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3276360" y="3124080"/>
            <a:ext cx="304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more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Arial"/>
              </a:rPr>
              <a:t>Discuss</a:t>
            </a:r>
            <a:r>
              <a:rPr b="1" i="1" lang="zh-CN" sz="4800" spc="-1" strike="noStrike">
                <a:solidFill>
                  <a:srgbClr val="0070c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o you like to go to the movi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ho is your favorite movie st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hy do you like him / her?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784920" y="5156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8c8222bd4cfa90e1bb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4776840"/>
            <a:ext cx="2305080" cy="20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562680" y="5334120"/>
            <a:ext cx="222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Comic Sans MS"/>
              </a:rPr>
              <a:t>cin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459720" y="609480"/>
            <a:ext cx="829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Where do you want to go ?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317600" y="2506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052280" y="2322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2005042610003"/>
          <p:cNvPicPr/>
          <p:nvPr/>
        </p:nvPicPr>
        <p:blipFill>
          <a:blip r:embed="rId2"/>
          <a:stretch/>
        </p:blipFill>
        <p:spPr>
          <a:xfrm>
            <a:off x="468360" y="2133720"/>
            <a:ext cx="2442960" cy="2879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7"/>
          <p:cNvSpPr/>
          <p:nvPr/>
        </p:nvSpPr>
        <p:spPr>
          <a:xfrm>
            <a:off x="6080040" y="307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2005042610029"/>
          <p:cNvPicPr/>
          <p:nvPr/>
        </p:nvPicPr>
        <p:blipFill>
          <a:blip r:embed="rId3"/>
          <a:stretch/>
        </p:blipFill>
        <p:spPr>
          <a:xfrm>
            <a:off x="6732720" y="2205000"/>
            <a:ext cx="2160360" cy="28083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6858000" y="5486400"/>
            <a:ext cx="298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Comic Sans MS"/>
              </a:rPr>
              <a:t>the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543480" y="38480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radio station02"/>
          <p:cNvPicPr/>
          <p:nvPr/>
        </p:nvPicPr>
        <p:blipFill>
          <a:blip r:embed="rId4"/>
          <a:stretch/>
        </p:blipFill>
        <p:spPr>
          <a:xfrm>
            <a:off x="3348000" y="2205000"/>
            <a:ext cx="3168720" cy="28083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2"/>
          <p:cNvSpPr/>
          <p:nvPr/>
        </p:nvSpPr>
        <p:spPr>
          <a:xfrm>
            <a:off x="3040200" y="54324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3184560" y="55040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3276720" y="548640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  <a:ea typeface="黑体"/>
              </a:rPr>
              <a:t>radio s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5-12-30T00:02:59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